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2E3-BA8D-4BBF-89BA-C74034B0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DC7-5D31-47CB-9928-7AB63C4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BA9-C3A3-41B1-B95F-395DC503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33A-69F5-4BDE-839F-26EACF8E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9AF7-239E-45CF-B32F-F90D4DD1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AA56-1A92-43FD-BBD8-65B90132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18AE-849C-41AF-9511-203E3315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8A8F-13A8-4AEF-94FA-E11A7AC2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29DA-769B-4028-B309-3E4E8EA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CF6C-9F93-474F-8F2A-1DD8498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6D6D-F36E-4A74-9079-33A073F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408-700C-41E0-991C-58B16AB2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8AD0-09B0-4093-B465-68EFFF4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A0E4-3E08-43BD-9C32-0C6ED934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C7F2-1463-4829-8658-9A4B00A5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31F-AB7D-48FC-BD03-587A25EE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2800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564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2800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564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0F8-834E-4D1A-8D42-672FB500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CCC-D52D-46D8-A1C8-122F929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939-10BE-4799-8412-CDDC39C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36A-12CE-4559-8A9E-1B46742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E82-CD50-4D01-B767-F15D5320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F4-1AB4-492C-938C-20A37E36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8268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852-267C-46C1-801C-059ABC0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268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573-9849-4B75-8CEB-CEE5695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4A1-E3E8-41F9-AB88-330204EA7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7E3A-34B7-4164-A7A4-601258D630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628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PIS PROSTOPADŁOŚCIANU: ŚCIANY, KRAWĘDZIE, WIERZCHOŁ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7316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392800" y="171936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"/>
          <p:cNvGrpSpPr/>
          <p:nvPr/>
        </p:nvGrpSpPr>
        <p:grpSpPr>
          <a:xfrm>
            <a:off x="5421240" y="1748160"/>
            <a:ext cx="3127320" cy="3573360"/>
            <a:chOff x="5421240" y="1748160"/>
            <a:chExt cx="3127320" cy="3573360"/>
          </a:xfrm>
        </p:grpSpPr>
        <p:sp>
          <p:nvSpPr>
            <p:cNvPr id="300" name=""/>
            <p:cNvSpPr/>
            <p:nvPr/>
          </p:nvSpPr>
          <p:spPr>
            <a:xfrm>
              <a:off x="542124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48560" y="1748160"/>
              <a:ext cx="0" cy="26794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572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0408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42124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42124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80408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04080" y="1748160"/>
              <a:ext cx="744480" cy="8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572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65720" y="17481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2124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6572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2124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5720" y="1748160"/>
              <a:ext cx="0" cy="8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408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0408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18480" y="1762200"/>
              <a:ext cx="714240" cy="265932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6752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7520" y="2648160"/>
              <a:ext cx="162072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0080" y="1747080"/>
            <a:ext cx="3152880" cy="3595680"/>
            <a:chOff x="5410080" y="1747080"/>
            <a:chExt cx="3152880" cy="3595680"/>
          </a:xfrm>
        </p:grpSpPr>
        <p:sp>
          <p:nvSpPr>
            <p:cNvPr id="323" name=""/>
            <p:cNvSpPr/>
            <p:nvPr/>
          </p:nvSpPr>
          <p:spPr>
            <a:xfrm>
              <a:off x="8562960" y="1747440"/>
              <a:ext cx="0" cy="26906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16680" y="4438440"/>
              <a:ext cx="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24480" y="1747080"/>
              <a:ext cx="74772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816680" y="4438440"/>
              <a:ext cx="746280" cy="8964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816680" y="1747080"/>
              <a:ext cx="746280" cy="8967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1747440"/>
              <a:ext cx="2390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24480" y="5335200"/>
              <a:ext cx="23922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59600" y="1755360"/>
              <a:ext cx="0" cy="8967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02640" y="4446360"/>
              <a:ext cx="7477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0080" y="2644560"/>
              <a:ext cx="0" cy="26902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78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410080" y="443844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0080" y="2644560"/>
              <a:ext cx="747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8000" y="2658600"/>
              <a:ext cx="731880" cy="2661840"/>
            </a:xfrm>
            <a:custGeom>
              <a:avLst/>
              <a:gdLst/>
              <a:ahLst/>
              <a:rect l="l" t="t" r="r" b="b"/>
              <a:pathLst>
                <a:path w="461" h="1677">
                  <a:moveTo>
                    <a:pt x="461" y="0"/>
                  </a:moveTo>
                  <a:lnTo>
                    <a:pt x="461" y="1118"/>
                  </a:lnTo>
                  <a:lnTo>
                    <a:pt x="0" y="167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2200" y="2644560"/>
              <a:ext cx="16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2200" y="4438440"/>
              <a:ext cx="16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6680" y="2644560"/>
              <a:ext cx="0" cy="1793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72200" y="2644560"/>
              <a:ext cx="0" cy="17935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411880" y="4446360"/>
              <a:ext cx="747720" cy="8964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59600" y="4446360"/>
              <a:ext cx="16430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5640" y="4452480"/>
              <a:ext cx="2362320" cy="869760"/>
            </a:xfrm>
            <a:custGeom>
              <a:avLst/>
              <a:gdLst/>
              <a:ahLst/>
              <a:rect l="l" t="t" r="r" b="b"/>
              <a:pathLst>
                <a:path w="1488" h="548">
                  <a:moveTo>
                    <a:pt x="1488" y="0"/>
                  </a:moveTo>
                  <a:lnTo>
                    <a:pt x="1488" y="548"/>
                  </a:lnTo>
                  <a:lnTo>
                    <a:pt x="0" y="548"/>
                  </a:lnTo>
                  <a:lnTo>
                    <a:pt x="465" y="0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57800" y="2658600"/>
              <a:ext cx="1640160" cy="177768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090440" y="1717200"/>
            <a:ext cx="3127680" cy="3574080"/>
            <a:chOff x="1090440" y="1717200"/>
            <a:chExt cx="3127680" cy="3574080"/>
          </a:xfrm>
        </p:grpSpPr>
        <p:sp>
          <p:nvSpPr>
            <p:cNvPr id="349" name=""/>
            <p:cNvSpPr/>
            <p:nvPr/>
          </p:nvSpPr>
          <p:spPr>
            <a:xfrm>
              <a:off x="1090440" y="261144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8120" y="171756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35280" y="261144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3280" y="439740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09044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1090440" y="4397040"/>
              <a:ext cx="74484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73280" y="439704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473280" y="1717200"/>
              <a:ext cx="74484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11440"/>
              <a:ext cx="16380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171756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90440" y="529128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280" y="4397400"/>
              <a:ext cx="16380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90440" y="2611440"/>
              <a:ext cx="744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5280" y="171756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73280" y="4397400"/>
              <a:ext cx="74484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73280" y="261144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5360" y="1733400"/>
              <a:ext cx="700200" cy="855720"/>
            </a:xfrm>
            <a:custGeom>
              <a:avLst/>
              <a:gdLst/>
              <a:ahLst/>
              <a:rect l="l" t="t" r="r" b="b"/>
              <a:pathLst>
                <a:path w="441" h="539">
                  <a:moveTo>
                    <a:pt x="0" y="539"/>
                  </a:moveTo>
                  <a:lnTo>
                    <a:pt x="441" y="0"/>
                  </a:lnTo>
                  <a:lnTo>
                    <a:pt x="441" y="539"/>
                  </a:lnTo>
                  <a:lnTo>
                    <a:pt x="0" y="539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3400" y="2617920"/>
              <a:ext cx="726840" cy="2666880"/>
            </a:xfrm>
            <a:custGeom>
              <a:avLst/>
              <a:gdLst/>
              <a:ahLst/>
              <a:rect l="l" t="t" r="r" b="b"/>
              <a:pathLst>
                <a:path w="458" h="1680">
                  <a:moveTo>
                    <a:pt x="458" y="0"/>
                  </a:moveTo>
                  <a:lnTo>
                    <a:pt x="458" y="1120"/>
                  </a:lnTo>
                  <a:lnTo>
                    <a:pt x="0" y="1680"/>
                  </a:lnTo>
                  <a:lnTo>
                    <a:pt x="0" y="0"/>
                  </a:lnTo>
                  <a:lnTo>
                    <a:pt x="458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090440" y="1748160"/>
            <a:ext cx="3102120" cy="3543120"/>
            <a:chOff x="1090440" y="1748160"/>
            <a:chExt cx="3102120" cy="3543120"/>
          </a:xfrm>
        </p:grpSpPr>
        <p:sp>
          <p:nvSpPr>
            <p:cNvPr id="370" name=""/>
            <p:cNvSpPr/>
            <p:nvPr/>
          </p:nvSpPr>
          <p:spPr>
            <a:xfrm>
              <a:off x="1090440" y="2633760"/>
              <a:ext cx="0" cy="2657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2560" y="1748160"/>
              <a:ext cx="0" cy="26571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2633760"/>
              <a:ext cx="0" cy="17715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54200" y="4405320"/>
              <a:ext cx="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09044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090440" y="4404960"/>
              <a:ext cx="738360" cy="8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454200" y="4404960"/>
              <a:ext cx="738360" cy="8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454200" y="1748160"/>
              <a:ext cx="738360" cy="8856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8800" y="2633760"/>
              <a:ext cx="16254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8800" y="174816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90440" y="5291280"/>
              <a:ext cx="23637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8800" y="4405320"/>
              <a:ext cx="16254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90440" y="2633760"/>
              <a:ext cx="7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748160"/>
              <a:ext cx="0" cy="8856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54200" y="4405320"/>
              <a:ext cx="7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54200" y="2633760"/>
              <a:ext cx="0" cy="17715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68600" y="1784520"/>
              <a:ext cx="708120" cy="2614680"/>
            </a:xfrm>
            <a:custGeom>
              <a:avLst/>
              <a:gdLst/>
              <a:ahLst/>
              <a:rect l="l" t="t" r="r" b="b"/>
              <a:pathLst>
                <a:path w="446" h="1647">
                  <a:moveTo>
                    <a:pt x="0" y="1647"/>
                  </a:moveTo>
                  <a:lnTo>
                    <a:pt x="0" y="549"/>
                  </a:lnTo>
                  <a:lnTo>
                    <a:pt x="446" y="0"/>
                  </a:lnTo>
                  <a:lnTo>
                    <a:pt x="446" y="1647"/>
                  </a:lnTo>
                  <a:lnTo>
                    <a:pt x="0" y="1647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68600" y="4413240"/>
              <a:ext cx="693720" cy="833760"/>
            </a:xfrm>
            <a:custGeom>
              <a:avLst/>
              <a:gdLst/>
              <a:ahLst/>
              <a:rect l="l" t="t" r="r" b="b"/>
              <a:pathLst>
                <a:path w="437" h="525">
                  <a:moveTo>
                    <a:pt x="437" y="0"/>
                  </a:moveTo>
                  <a:lnTo>
                    <a:pt x="0" y="525"/>
                  </a:lnTo>
                  <a:lnTo>
                    <a:pt x="0" y="0"/>
                  </a:lnTo>
                  <a:lnTo>
                    <a:pt x="437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74200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4200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RÓWNOLEG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357720" y="4397400"/>
          <a:ext cx="7794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9740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367080" y="1673280"/>
          <a:ext cx="800280" cy="94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67080" y="1673280"/>
                    <a:ext cx="800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85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ZEŚC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62000" y="5454720"/>
            <a:ext cx="598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ze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est prostopadłościanem, którego wszystkie ściany są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wadra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3303720" y="1603440"/>
          <a:ext cx="32479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3720" y="1603440"/>
                    <a:ext cx="32479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3760920" y="3833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07000" y="38419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76640" y="4959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60920" y="4959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453360" y="4011480"/>
          <a:ext cx="144360" cy="1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336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265560" y="487692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556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4021200" y="4011480"/>
          <a:ext cx="144360" cy="1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21200" y="40114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688000" y="4876920"/>
          <a:ext cx="14436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88000" y="487692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041640" y="251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13460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25920" y="25225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07000" y="13460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21200" y="1577880"/>
          <a:ext cx="144360" cy="1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2120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3265560" y="2478240"/>
          <a:ext cx="144360" cy="14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65560" y="24782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453360" y="1577880"/>
          <a:ext cx="144360" cy="14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53360" y="157788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5688000" y="2475000"/>
          <a:ext cx="144360" cy="14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88000" y="2475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7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EDMIOTY, KTÓRE MAJĄ KSZTAŁT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43" descr=""/>
          <p:cNvPicPr/>
          <p:nvPr/>
        </p:nvPicPr>
        <p:blipFill>
          <a:blip r:embed="rId1"/>
          <a:srcRect l="49793" t="0" r="0" b="0"/>
          <a:stretch/>
        </p:blipFill>
        <p:spPr>
          <a:xfrm>
            <a:off x="2232000" y="1673280"/>
            <a:ext cx="5446800" cy="2125440"/>
          </a:xfrm>
          <a:prstGeom prst="rect">
            <a:avLst/>
          </a:prstGeom>
          <a:ln w="0">
            <a:noFill/>
          </a:ln>
        </p:spPr>
      </p:pic>
      <p:pic>
        <p:nvPicPr>
          <p:cNvPr id="97" name="Obraz 143" descr=""/>
          <p:cNvPicPr/>
          <p:nvPr/>
        </p:nvPicPr>
        <p:blipFill>
          <a:blip r:embed="rId2"/>
          <a:srcRect l="0" t="0" r="50005" b="0"/>
          <a:stretch/>
        </p:blipFill>
        <p:spPr>
          <a:xfrm>
            <a:off x="2276640" y="3968640"/>
            <a:ext cx="5400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YSUNEK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81280" y="554364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stopadłości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budowany jest z prosto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ZCHOŁ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5815080"/>
            <a:ext cx="74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ierzchołk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topadłościanu oznaczam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ielkimi liter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32000" y="1538280"/>
          <a:ext cx="3186360" cy="36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38280"/>
                    <a:ext cx="31863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581280" y="4006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2360" y="24321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81640" y="40147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46640" y="243828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81640" y="12621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736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1640" y="5132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62640" y="2394000"/>
          <a:ext cx="144360" cy="1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264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41920" y="1494000"/>
          <a:ext cx="144360" cy="1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1920" y="14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086280" y="2394000"/>
          <a:ext cx="144360" cy="1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6280" y="239400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192720" y="4184640"/>
          <a:ext cx="144720" cy="1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92720" y="418464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92720" y="1494000"/>
          <a:ext cx="144720" cy="14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92720" y="1494000"/>
                    <a:ext cx="14472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86280" y="5049720"/>
          <a:ext cx="144360" cy="14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86280" y="5049720"/>
                    <a:ext cx="14436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41920" y="4184640"/>
          <a:ext cx="144360" cy="14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41920" y="4184640"/>
                    <a:ext cx="144360" cy="1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72000" y="5049720"/>
          <a:ext cx="144720" cy="1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72000" y="5049720"/>
                    <a:ext cx="144720" cy="1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DSTAWY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21000" y="1719360"/>
            <a:ext cx="3251160" cy="3700440"/>
            <a:chOff x="3321000" y="1719360"/>
            <a:chExt cx="3251160" cy="3700440"/>
          </a:xfrm>
        </p:grpSpPr>
        <p:graphicFrame>
          <p:nvGraphicFramePr>
            <p:cNvPr id="135" name=""/>
            <p:cNvGraphicFramePr/>
            <p:nvPr/>
          </p:nvGraphicFramePr>
          <p:xfrm>
            <a:off x="3366720" y="176364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66720" y="176364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697360" y="261936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9736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4076640" y="171936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6640" y="17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321000" y="261936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21000" y="261936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6427440" y="441000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27440" y="441000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6427440" y="171936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27440" y="171936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3321000" y="527508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21000" y="527508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4076640" y="441000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6640" y="441000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5706720" y="527508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06720" y="527508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3" name=""/>
          <p:cNvGraphicFramePr/>
          <p:nvPr/>
        </p:nvGraphicFramePr>
        <p:xfrm>
          <a:off x="3363840" y="1773360"/>
          <a:ext cx="3187800" cy="363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63840" y="1773360"/>
                    <a:ext cx="3187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357720" y="1763640"/>
          <a:ext cx="3189240" cy="3635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7720" y="1763640"/>
                    <a:ext cx="318924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0320" y="0"/>
            <a:ext cx="799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BOCZNE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6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65560" y="1673280"/>
            <a:ext cx="3251160" cy="3700440"/>
            <a:chOff x="3265560" y="1673280"/>
            <a:chExt cx="3251160" cy="3700440"/>
          </a:xfrm>
        </p:grpSpPr>
        <p:graphicFrame>
          <p:nvGraphicFramePr>
            <p:cNvPr id="160" name=""/>
            <p:cNvGraphicFramePr/>
            <p:nvPr/>
          </p:nvGraphicFramePr>
          <p:xfrm>
            <a:off x="3311280" y="1717560"/>
            <a:ext cx="3186360" cy="363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1280" y="1717560"/>
                      <a:ext cx="3186360" cy="363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5641920" y="2573280"/>
            <a:ext cx="144360" cy="14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92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021200" y="1673280"/>
            <a:ext cx="144360" cy="14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21200" y="16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3265560" y="2573280"/>
            <a:ext cx="144360" cy="14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5560" y="257328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372000" y="4363920"/>
            <a:ext cx="144720" cy="144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72000" y="436392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6372000" y="1673280"/>
            <a:ext cx="144720" cy="14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72000" y="1673280"/>
                      <a:ext cx="14472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3265560" y="5229000"/>
            <a:ext cx="144360" cy="144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65560" y="5229000"/>
                      <a:ext cx="14436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4021200" y="4363920"/>
            <a:ext cx="144360" cy="144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21200" y="4363920"/>
                      <a:ext cx="1443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5651280" y="5229000"/>
            <a:ext cx="144720" cy="144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51280" y="5229000"/>
                      <a:ext cx="144720" cy="1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8" name=""/>
          <p:cNvGraphicFramePr/>
          <p:nvPr/>
        </p:nvGraphicFramePr>
        <p:xfrm>
          <a:off x="3297240" y="1719360"/>
          <a:ext cx="3209760" cy="3644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97240" y="1719360"/>
                    <a:ext cx="320976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11640" y="1763640"/>
          <a:ext cx="3159000" cy="3600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1640" y="1763640"/>
                    <a:ext cx="31590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22800" y="1719360"/>
          <a:ext cx="3184200" cy="3630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22800" y="1719360"/>
                    <a:ext cx="3184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PODSTAWY 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GÓRNEJ I DOLN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28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42000" y="4373640"/>
          <a:ext cx="79704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2000" y="4373640"/>
                    <a:ext cx="79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732640" y="1719360"/>
          <a:ext cx="779400" cy="9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2640" y="1719360"/>
                    <a:ext cx="779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357720" y="4373640"/>
          <a:ext cx="7984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373640"/>
                    <a:ext cx="7984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322800" y="1717560"/>
          <a:ext cx="799920" cy="94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2800" y="1717560"/>
                    <a:ext cx="79992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357720" y="5273640"/>
          <a:ext cx="2428560" cy="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7720" y="527364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357720" y="2595600"/>
          <a:ext cx="2428560" cy="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7720" y="2595600"/>
                    <a:ext cx="2428560" cy="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032360" y="1695600"/>
          <a:ext cx="2474640" cy="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2360" y="1695600"/>
                    <a:ext cx="247464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076640" y="4373640"/>
          <a:ext cx="2428920" cy="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76640" y="4373640"/>
                    <a:ext cx="2428920" cy="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KRAWĘDZIE BOCZ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33864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718240" y="2619360"/>
          <a:ext cx="6804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2619360"/>
                    <a:ext cx="6804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462720" y="1719360"/>
          <a:ext cx="68400" cy="27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72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076640" y="1719360"/>
          <a:ext cx="68400" cy="27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6640" y="17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333600" y="2619360"/>
          <a:ext cx="68400" cy="270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33600" y="2619360"/>
                    <a:ext cx="684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27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ŚCIANY PROSTOPADŁ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2000" y="1701720"/>
          <a:ext cx="318456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1109880" y="1747440"/>
            <a:ext cx="3127320" cy="3574080"/>
            <a:chOff x="1109880" y="1747440"/>
            <a:chExt cx="3127320" cy="3574080"/>
          </a:xfrm>
        </p:grpSpPr>
        <p:sp>
          <p:nvSpPr>
            <p:cNvPr id="223" name=""/>
            <p:cNvSpPr/>
            <p:nvPr/>
          </p:nvSpPr>
          <p:spPr>
            <a:xfrm>
              <a:off x="1109880" y="264168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7200" y="1747800"/>
              <a:ext cx="0" cy="2679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4360" y="2641680"/>
              <a:ext cx="0" cy="178596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92720" y="442764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0988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109880" y="4427280"/>
              <a:ext cx="7444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92720" y="442728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492720" y="174744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54360" y="2641680"/>
              <a:ext cx="16383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4360" y="174780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09880" y="5321520"/>
              <a:ext cx="238284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4360" y="4427640"/>
              <a:ext cx="163836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880" y="2641680"/>
              <a:ext cx="7444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54360" y="1747800"/>
              <a:ext cx="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2720" y="442764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2720" y="2641680"/>
              <a:ext cx="0" cy="178596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6760" y="1762200"/>
              <a:ext cx="714600" cy="2658960"/>
            </a:xfrm>
            <a:custGeom>
              <a:avLst/>
              <a:gdLst/>
              <a:ahLst/>
              <a:rect l="l" t="t" r="r" b="b"/>
              <a:pathLst>
                <a:path w="450" h="1675">
                  <a:moveTo>
                    <a:pt x="0" y="1675"/>
                  </a:moveTo>
                  <a:lnTo>
                    <a:pt x="0" y="558"/>
                  </a:lnTo>
                  <a:lnTo>
                    <a:pt x="450" y="0"/>
                  </a:lnTo>
                  <a:lnTo>
                    <a:pt x="450" y="1675"/>
                  </a:lnTo>
                  <a:lnTo>
                    <a:pt x="0" y="167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55800" y="1768680"/>
              <a:ext cx="2343240" cy="865080"/>
            </a:xfrm>
            <a:custGeom>
              <a:avLst/>
              <a:gdLst/>
              <a:ahLst/>
              <a:rect l="l" t="t" r="r" b="b"/>
              <a:pathLst>
                <a:path w="1476" h="545">
                  <a:moveTo>
                    <a:pt x="0" y="545"/>
                  </a:moveTo>
                  <a:lnTo>
                    <a:pt x="0" y="0"/>
                  </a:lnTo>
                  <a:lnTo>
                    <a:pt x="1476" y="0"/>
                  </a:lnTo>
                  <a:lnTo>
                    <a:pt x="1042" y="545"/>
                  </a:lnTo>
                  <a:lnTo>
                    <a:pt x="0" y="545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55800" y="2648160"/>
              <a:ext cx="1621080" cy="1774800"/>
            </a:xfrm>
            <a:prstGeom prst="rect">
              <a:avLst/>
            </a:pr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16000" y="1747800"/>
            <a:ext cx="3130560" cy="3578400"/>
            <a:chOff x="1116000" y="1747800"/>
            <a:chExt cx="3130560" cy="3578400"/>
          </a:xfrm>
        </p:grpSpPr>
        <p:sp>
          <p:nvSpPr>
            <p:cNvPr id="246" name=""/>
            <p:cNvSpPr/>
            <p:nvPr/>
          </p:nvSpPr>
          <p:spPr>
            <a:xfrm>
              <a:off x="1116000" y="2643480"/>
              <a:ext cx="0" cy="26827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6560" y="174780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61920" y="2643480"/>
              <a:ext cx="0" cy="178884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116000" y="1747800"/>
              <a:ext cx="74556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02080" y="1747800"/>
              <a:ext cx="744120" cy="8956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1920" y="2643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1920" y="174780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16000" y="2643480"/>
              <a:ext cx="74556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61920" y="1747800"/>
              <a:ext cx="0" cy="8956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2080" y="2643480"/>
              <a:ext cx="0" cy="178884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116000" y="4431960"/>
              <a:ext cx="74556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16000" y="5326200"/>
              <a:ext cx="238572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61920" y="443232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16000" y="4432320"/>
              <a:ext cx="237456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502080" y="4431960"/>
              <a:ext cx="74412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02080" y="4432320"/>
              <a:ext cx="74412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02080" y="443232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16120" y="4432320"/>
              <a:ext cx="70128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5392800" y="1701720"/>
          <a:ext cx="3184560" cy="36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2800" y="170172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381640" y="1719360"/>
          <a:ext cx="3184560" cy="363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1640" y="1719360"/>
                    <a:ext cx="318456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5418000" y="1756800"/>
            <a:ext cx="3130560" cy="3578760"/>
            <a:chOff x="5418000" y="1756800"/>
            <a:chExt cx="3130560" cy="3578760"/>
          </a:xfrm>
        </p:grpSpPr>
        <p:sp>
          <p:nvSpPr>
            <p:cNvPr id="272" name=""/>
            <p:cNvSpPr/>
            <p:nvPr/>
          </p:nvSpPr>
          <p:spPr>
            <a:xfrm>
              <a:off x="5418000" y="2652480"/>
              <a:ext cx="0" cy="26830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560" y="1757160"/>
              <a:ext cx="0" cy="26845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64280" y="2652480"/>
              <a:ext cx="0" cy="178920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8000" y="1756800"/>
              <a:ext cx="7462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804080" y="1756800"/>
              <a:ext cx="744480" cy="89532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64280" y="2652480"/>
              <a:ext cx="163980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64280" y="1757160"/>
              <a:ext cx="2384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8000" y="2652480"/>
              <a:ext cx="7462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64280" y="1757160"/>
              <a:ext cx="0" cy="89532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04080" y="2652480"/>
              <a:ext cx="0" cy="178920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18000" y="4441320"/>
              <a:ext cx="746280" cy="89388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8000" y="5335560"/>
              <a:ext cx="2386080" cy="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64280" y="4441680"/>
              <a:ext cx="163980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8000" y="4441680"/>
              <a:ext cx="2374920" cy="879480"/>
            </a:xfrm>
            <a:custGeom>
              <a:avLst/>
              <a:gdLst/>
              <a:ahLst/>
              <a:rect l="l" t="t" r="r" b="b"/>
              <a:pathLst>
                <a:path w="1496" h="554">
                  <a:moveTo>
                    <a:pt x="1496" y="0"/>
                  </a:moveTo>
                  <a:lnTo>
                    <a:pt x="1496" y="554"/>
                  </a:lnTo>
                  <a:lnTo>
                    <a:pt x="0" y="554"/>
                  </a:lnTo>
                  <a:lnTo>
                    <a:pt x="468" y="0"/>
                  </a:lnTo>
                  <a:lnTo>
                    <a:pt x="1496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804080" y="4441320"/>
              <a:ext cx="74448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04080" y="4441680"/>
              <a:ext cx="744480" cy="0"/>
            </a:xfrm>
            <a:prstGeom prst="line">
              <a:avLst/>
            </a:prstGeom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04080" y="4441680"/>
              <a:ext cx="0" cy="893880"/>
            </a:xfrm>
            <a:prstGeom prst="line">
              <a:avLst/>
            </a:prstGeom>
            <a:ln cap="rnd" w="33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8480" y="4441680"/>
              <a:ext cx="701640" cy="841320"/>
            </a:xfrm>
            <a:custGeom>
              <a:avLst/>
              <a:gdLst/>
              <a:ahLst/>
              <a:rect l="l" t="t" r="r" b="b"/>
              <a:pathLst>
                <a:path w="442" h="530">
                  <a:moveTo>
                    <a:pt x="442" y="0"/>
                  </a:moveTo>
                  <a:lnTo>
                    <a:pt x="0" y="530"/>
                  </a:lnTo>
                  <a:lnTo>
                    <a:pt x="0" y="0"/>
                  </a:lnTo>
                  <a:lnTo>
                    <a:pt x="442" y="0"/>
                  </a:lnTo>
                  <a:close/>
                </a:path>
              </a:pathLst>
            </a:custGeom>
            <a:noFill/>
            <a:ln cap="rnd"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9:37Z</dcterms:modified>
  <cp:revision>17</cp:revision>
  <dc:subject/>
  <dc:title>Slajd 1</dc:title>
</cp:coreProperties>
</file>